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18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BD3-BBAD-4E6C-AE19-F07CB9762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7BE-1945-441F-BFA5-78E325DB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EE3-6CD6-4614-997E-79762408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2AAD-FCD9-48F2-90E0-527A6A54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4B6E-5AA7-49B6-B2E3-8550AF21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9898-6412-4272-B6D6-1259B1C0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932A-D18D-4EC6-AE2E-5C9ECF5E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2A4-23F7-4D88-BB2C-91FE791A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52A-9C03-4FAF-9BC6-8D13CFA8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5B2-7B57-4375-859C-0C50723B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1586-00AF-4EBA-A678-B09A4A7B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2D5-8E21-4CD8-A002-67191CA1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5880-8F75-44F8-926A-6F20DEDE4C3D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990360"/>
            <a:ext cx="73915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RECUPERARE 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  <a:ea typeface="Arial"/>
              </a:rPr>
              <a:t>ŞI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r>
              <a:rPr b="1" lang="en-US" sz="6600" spc="-1" strike="noStrike">
                <a:solidFill>
                  <a:srgbClr val="993300"/>
                </a:solidFill>
                <a:latin typeface="Arial"/>
                <a:ea typeface="Arial"/>
              </a:rPr>
              <a:t>	</a:t>
            </a:r>
            <a:r>
              <a:rPr b="1" lang="en-US" sz="6600" spc="-1" strike="noStrike">
                <a:solidFill>
                  <a:srgbClr val="a50021"/>
                </a:solidFill>
                <a:latin typeface="Arial"/>
                <a:ea typeface="Arial"/>
              </a:rPr>
              <a:t>DEZVOLTA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895480" y="4191120"/>
            <a:ext cx="3886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00240" y="228600"/>
            <a:ext cx="4343400" cy="586728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Scrieti produse egale cu fiecare dintre numerele: 56; 54, 27, 28, 32, 81, 63, 72, 49,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228600"/>
            <a:ext cx="4343400" cy="589752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Num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ăraţi, apoi scrieţi numere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a) din 2 în 2 pornind de la 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b) din 3 în 3 pornind de la 3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c) Din 5 în 5 pornid de la5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9880" y="5048280"/>
            <a:ext cx="17910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74680"/>
            <a:ext cx="8534520" cy="178272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3.  Scrie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ţi pe caiet, apoi încercuiţi  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numerele care pot fi rezultate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ale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Arial"/>
              </a:rPr>
              <a:t>înmulţirilo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2438280"/>
            <a:ext cx="8381880" cy="419112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a) cu 2 : 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2, 8, 16, 6 10 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11,19,20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b) cu 3 :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3, 6, 8, 9, 15, 16, 20, 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21, 18, 12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c) cu 5 :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5, 20, 27, 45, 35, 30, 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56, 25, 40, 4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086600" y="2590920"/>
            <a:ext cx="1295280" cy="1143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8840" y="1142640"/>
            <a:ext cx="3886200" cy="4267080"/>
          </a:xfrm>
          <a:prstGeom prst="rect">
            <a:avLst/>
          </a:prstGeom>
          <a:noFill/>
          <a:ln w="28440">
            <a:solidFill>
              <a:srgbClr val="a50021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5. O cutie con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ţ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ine 10 ou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ă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.C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â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te ou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ă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 con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ţ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in 10 cutii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4572000" cy="5562720"/>
          </a:xfrm>
          <a:prstGeom prst="rect">
            <a:avLst/>
          </a:prstGeom>
          <a:noFill/>
          <a:ln w="2844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4.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ompara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ţ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produse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6 X 6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6 X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7 X 8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8 X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2 X 8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4 X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5 X 6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3 X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4 X 9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6 X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7 X 5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8 X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21337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74320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342900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411480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480060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410080"/>
            <a:ext cx="1295280" cy="381240"/>
          </a:xfrm>
          <a:custGeom>
            <a:avLst/>
            <a:gdLst>
              <a:gd name="textAreaLeft" fmla="*/ 24480 w 1295280"/>
              <a:gd name="textAreaRight" fmla="*/ 1270800 w 12952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3338" h="21600">
                <a:moveTo>
                  <a:pt x="0" y="0"/>
                </a:moveTo>
                <a:lnTo>
                  <a:pt x="73338" y="0"/>
                </a:lnTo>
                <a:lnTo>
                  <a:pt x="73338" y="21600"/>
                </a:lnTo>
                <a:lnTo>
                  <a:pt x="0" y="21600"/>
                </a:lnTo>
                <a:close/>
              </a:path>
              <a:path fill="lightenLess" w="73338" h="21600">
                <a:moveTo>
                  <a:pt x="0" y="0"/>
                </a:moveTo>
                <a:lnTo>
                  <a:pt x="73338" y="0"/>
                </a:lnTo>
                <a:lnTo>
                  <a:pt x="71938" y="1400"/>
                </a:lnTo>
                <a:lnTo>
                  <a:pt x="1400" y="1400"/>
                </a:lnTo>
                <a:close/>
              </a:path>
              <a:path fill="darken" w="73338" h="21600">
                <a:moveTo>
                  <a:pt x="73338" y="0"/>
                </a:moveTo>
                <a:lnTo>
                  <a:pt x="73338" y="21600"/>
                </a:lnTo>
                <a:lnTo>
                  <a:pt x="71938" y="20200"/>
                </a:lnTo>
                <a:lnTo>
                  <a:pt x="71938" y="1400"/>
                </a:lnTo>
                <a:close/>
              </a:path>
              <a:path fill="darkenLess" w="73338" h="21600">
                <a:moveTo>
                  <a:pt x="73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38" y="20200"/>
                </a:lnTo>
                <a:close/>
              </a:path>
              <a:path fill="lighten" w="73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62520" y="685800"/>
            <a:ext cx="920520" cy="1447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543800" y="4343400"/>
            <a:ext cx="114300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24080" y="0"/>
            <a:ext cx="3657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6 .Efectua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ţ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i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715000"/>
          </a:xfrm>
          <a:prstGeom prst="rect">
            <a:avLst/>
          </a:prstGeom>
          <a:noFill/>
          <a:ln w="57240">
            <a:solidFill>
              <a:srgbClr val="a5002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a) 100 – 25 – 9 + 18 – 43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b)   75 – ( 29 + 36 – 19 ) + 16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)   ( 15 + 79 – 31 ) – ( 46 – 29 + 2 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d)   56 – 3 x 9 + 2 x 4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e)    2 x 1 x 4 x7 – 5 x 10 + 10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f)  ( 17 + 3 x 9 ) – ( 84 – 5 x 8 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g)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9 x 9 – 4 x ( 69 – 7 x 9 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h) ( 100 – 8 x 8 x 1 ) – ( 46 – 29 + 2 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400040" cy="2209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3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2520" y="609120"/>
            <a:ext cx="40388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8.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Afla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ţ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i valoarea necunoscutei: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7 x a + 12 = 75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7 x a – 19 = 23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a – 9 x 5 = 27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a + 7 x 5 = 7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456840"/>
            <a:ext cx="46483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7. Afla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ţ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i pe b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şi c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ştiind că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a = 3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b = a x 3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c = b x 3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371600" y="3962520"/>
            <a:ext cx="312408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543800" y="1066680"/>
            <a:ext cx="11430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5943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De trei ori copilul car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Câte 7 pietrice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- Uf ! se întristă deodat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Dacă aş mai avea vreo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Aş putea chiar azi desch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Uşa pentru musafi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-Spune tu că mergi la şcoal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Câte pietre au i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În castelul fermec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95880" y="0"/>
            <a:ext cx="3048120" cy="4267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800600" y="502920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6019920" y="5029200"/>
            <a:ext cx="2889000" cy="1371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Într-o seră s-au plantat 6 rânduri a câte 9 muşcate roşii şi 8 rânduri a câte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muşcate albe. Din care muşcate s-au plantat ma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  <a:ea typeface="Arial"/>
              </a:rPr>
              <a:t>multe şi cu cât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6096240" cy="3048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10280" y="3808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934320" y="2286000"/>
            <a:ext cx="1828800" cy="1523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7467480" y="4648320"/>
            <a:ext cx="1143000" cy="117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8153640" cy="5867280"/>
          </a:xfrm>
          <a:prstGeom prst="rect">
            <a:avLst/>
          </a:prstGeom>
          <a:ln w="76320">
            <a:solidFill>
              <a:srgbClr val="a50021"/>
            </a:solidFill>
            <a:miter/>
          </a:ln>
        </p:spPr>
      </p:pic>
      <p:sp>
        <p:nvSpPr>
          <p:cNvPr id="76" name=""/>
          <p:cNvSpPr txBox="1"/>
          <p:nvPr/>
        </p:nvSpPr>
        <p:spPr>
          <a:xfrm>
            <a:off x="1371600" y="4114800"/>
            <a:ext cx="39625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</a:t>
            </a:r>
            <a:r>
              <a:rPr b="1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alizat de inv.</a:t>
            </a:r>
            <a:endParaRPr b="1" i="1" lang="en-US" sz="1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r>
              <a:rPr b="1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tanciu Marioara</a:t>
            </a:r>
            <a:endParaRPr b="1" i="1" lang="en-US" sz="1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</a:t>
            </a:r>
            <a:r>
              <a:rPr b="1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c. Gen. ,,Lucian Blaga"</a:t>
            </a:r>
            <a:endParaRPr b="1" i="1" lang="en-US" sz="1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         </a:t>
            </a:r>
            <a:r>
              <a:rPr b="1" i="1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Deva</a:t>
            </a:r>
            <a:endParaRPr b="1" i="1" lang="en-US" sz="1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7:04:10Z</dcterms:created>
  <dc:creator>pc</dc:creator>
  <dc:description/>
  <dc:language>en-US</dc:language>
  <cp:lastModifiedBy>pc</cp:lastModifiedBy>
  <dcterms:modified xsi:type="dcterms:W3CDTF">2007-11-08T19:32:00Z</dcterms:modified>
  <cp:revision>2</cp:revision>
  <dc:subject/>
  <dc:title> RECUPERARE      ŞI  DEZVOLTARE</dc:title>
</cp:coreProperties>
</file>